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ct" ContentType="image/x-pict"/>
  <Override PartName="/ppt/media/image19.jpeg" ContentType="image/jpeg"/>
  <Override PartName="/ppt/media/image13.pct" ContentType="image/x-pict"/>
  <Override PartName="/ppt/media/image2.png" ContentType="image/png"/>
  <Override PartName="/ppt/media/image8.pct" ContentType="image/x-pict"/>
  <Override PartName="/ppt/media/image6.jpeg" ContentType="image/jpeg"/>
  <Override PartName="/ppt/media/image11.jpeg" ContentType="image/jpeg"/>
  <Override PartName="/ppt/media/image10.jpeg" ContentType="image/jpeg"/>
  <Override PartName="/ppt/media/image5.jpeg" ContentType="image/jpeg"/>
  <Override PartName="/ppt/media/image23.pct" ContentType="image/x-pict"/>
  <Override PartName="/ppt/media/image22.png" ContentType="image/png"/>
  <Override PartName="/ppt/media/image21.pct" ContentType="image/x-pict"/>
  <Override PartName="/ppt/media/image18.jpeg" ContentType="image/jpeg"/>
  <Override PartName="/ppt/media/image4.pct" ContentType="image/x-pict"/>
  <Override PartName="/ppt/media/image1.jpeg" ContentType="image/jpeg"/>
  <Override PartName="/ppt/media/image7.png" ContentType="image/png"/>
  <Override PartName="/ppt/media/image20.jpeg" ContentType="image/jpeg"/>
  <Override PartName="/ppt/media/image15.pct" ContentType="image/x-pict"/>
  <Override PartName="/ppt/media/image17.png" ContentType="image/png"/>
  <Override PartName="/ppt/media/image14.pct" ContentType="image/x-pict"/>
  <Override PartName="/ppt/media/image16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807-29BB-4519-8151-5D8677A8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place to give a personal example – of a classroom you’ve taught or seen that had students at multiple grade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s on this slide can be mentioned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oints to make while talking about this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fferentiate instruction is to recognize students’ varying background knowledge, readiness, learning styles, and interests and to react to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nt of differentiated instruction is to maximize each student’s growth and individual success by meeting each student where he or she is and designing instruction that matches students’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89C-C6B9-4C44-AFB8-06BADE0F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ACD-8FBC-4FA6-98A9-EADD939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FF5-53EF-4A59-B709-166BA1D5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C12-3420-40DC-A8BD-6E0FDFD2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EFB-B647-4005-AED6-8E270E48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BC5D-0E0F-4332-98BC-7E2F99AE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F06-79EB-4E6D-82B7-EA4D5A6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A768-B94A-4411-B13C-1EBEBC52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9A0A-3EEB-41D4-B4A5-1382B1B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E02D-BC9D-4D63-AED4-F52DD6E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FBB4-E97C-4D70-8452-D190B8E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6A0-552C-4DF5-9222-EA9E6E2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6721-D84A-4E90-987E-16D0F94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053-F12D-449D-B4C2-8F39D53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7F0F-A15E-4E50-85FF-8E933C43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FEE-B6F4-4412-8A30-D33EFCBD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8269-56CD-421B-A491-8256B08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442-F716-4A51-94D8-8606259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A50-0B26-4FFB-BBBD-C7DCB8DA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587-5A78-4B83-BC39-6E647EC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862-95C7-45E2-B98C-59793BA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AC9-8050-4A4C-A8B6-9A7E85C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211-5229-480A-94C4-D443BBA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1A4-9A24-480C-B70D-E233748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7B4-10B5-4A1D-BF30-19E347323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7415-0475-45DE-B264-43B83D187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kar95@verinet.com" TargetMode="External"/><Relationship Id="rId2" Type="http://schemas.openxmlformats.org/officeDocument/2006/relationships/hyperlink" Target="mailto:theisent@gmail.com" TargetMode="Externa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ile we are waiting to start do the following: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438280"/>
            <a:ext cx="8534160" cy="78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Teacher Strategy Profile-page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Check three you already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b. Check one you want to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Why Differentiate?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696080" cy="4273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utura"/>
              </a:rPr>
              <a:t>To provide access, equity and support for all stud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The Many Layer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334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The many layers of a stud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80920" y="817560"/>
            <a:ext cx="765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In order to teach the squirrels,   you must think like the squirrel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11336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eling confus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029120" cy="58672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Guiding Principles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9880" y="2057040"/>
            <a:ext cx="51055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There is a balance between whole class learning and different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Essential questions guide in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Instruction aligns with standards and curr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25640" cy="3733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Characteristics of a differentiated classroom..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High Expectations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Respectful tas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Flexible group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Ongoing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Positive and safe learning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Collab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at is Differentiation?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A teacher’s response to learne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The recognition of students’ varying background knowledge and learning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Instruction that honors students’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A philosophy of teaching and not just a set of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at does content mean?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What a student knows, understands and is able to do as a result of the instruction:          the “input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00"/>
                </a:solidFill>
                <a:latin typeface="Futura"/>
              </a:rPr>
              <a:t>Differentiated Instruction to Support and Challeng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"/>
              </a:rPr>
              <a:t>our 21st Century Learner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742840"/>
            <a:ext cx="43434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ni Theis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veland High Scho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ompson School Distri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veland, C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0-412-0256</a:t>
            </a:r>
            <a:br>
              <a:rPr sz="1600"/>
            </a:br>
            <a:r>
              <a:rPr b="0" lang="en-US" sz="16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dakar95@verine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theisent@gma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tonitheisen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lhsfrenchclasses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3520" y="1905120"/>
            <a:ext cx="3565440" cy="47242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 spd="slow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What does process mean?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he process helps the student “make sense of”, make meaning from, or “own” the conten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What does product mean?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How the student demonstrates what s/he knows, understands, and is able to do:                  the “output”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Futura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ffffff"/>
                </a:solidFill>
                <a:latin typeface="Futura"/>
                <a:ea typeface="Times New Roman"/>
              </a:rPr>
              <a:t>Aspects of teaching for engaging all learner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a"/>
              </a:rPr>
              <a:t>Some basic strategie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Menu choice boar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iered less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.A.F.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Learning Cent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24360" cy="5470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0"/>
            <a:ext cx="58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Choice Board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lesson for Readin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ow to tier for readiness..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ncre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ncrete/Abstr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Abstr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R.A.F.T.</a:t>
            </a: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riting</a:t>
            </a: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(provides purpose for writing)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66880"/>
            <a:ext cx="855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-role of the wri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A-audi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F-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-topic (+strong verb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"/>
              </a:rPr>
              <a:t>R.A.F.T. Assignm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a"/>
              </a:rPr>
              <a:t>French 2--Traveling in France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243080"/>
            <a:ext cx="67816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Goal: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"/>
          <p:cNvSpPr/>
          <p:nvPr/>
        </p:nvSpPr>
        <p:spPr>
          <a:xfrm>
            <a:off x="1957320" y="22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Students who can function in real-world situations that are authentic, predictable, unpredictable and vita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76520" y="291960"/>
            <a:ext cx="5638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40080" y="28242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53160" y="1909800"/>
            <a:ext cx="17143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96720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9957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113364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0239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0813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248112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465300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480" y="3281400"/>
            <a:ext cx="571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81360" y="3395520"/>
            <a:ext cx="571320" cy="2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81360" y="3750840"/>
            <a:ext cx="571320" cy="33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286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Learning Cen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809880"/>
            <a:ext cx="68580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Flexible Grouping Practices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95480" y="2895480"/>
          <a:ext cx="314028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402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-842400" y="4648320"/>
            <a:ext cx="109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elp create a safe and honor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learning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228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Comic Sans MS"/>
                </a:rPr>
                <a:t>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Comic Sans MS"/>
                </a:rPr>
                <a:t>Engag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231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239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 Narrow"/>
                </a:rPr>
                <a:t>Greater 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 Narrow"/>
                </a:rPr>
                <a:t>Achiev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242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39092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Activities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86400" cy="44434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Partner A looks at overhead and tries to explain the word without using it. (No hand move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Partner B doesn’t look at overhead, listens and tries to guess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Second round reverse r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First round- 3 different words-remember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NO HAND MOVEMENTS!!!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1.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whale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2. boundary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3. 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Second round- 3 different words-remember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NO HAND MOVEM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1.  technology</a:t>
            </a: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2.  awe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3.  scroll</a:t>
            </a: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191120" y="1980720"/>
            <a:ext cx="441936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Do not confine your children to your own learning, for they were born in another time.”           -Hebrew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7520" y="1981080"/>
            <a:ext cx="27450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A Thought…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a"/>
              </a:rPr>
              <a:t>Create Categorie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elo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tich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ngo-gu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om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erry garcia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fé au la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nion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utter pec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ucchi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amom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ocky roa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a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t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ubble gum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qua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pres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vocad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cha steamer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an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awberry swirl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e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bbage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uble expresso lat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0" y="2630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ART START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724280" cy="4567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81024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4083120" cy="4647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0" y="1981080"/>
            <a:ext cx="26640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63960" y="1981080"/>
            <a:ext cx="30160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6775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Gut” guessers</a:t>
            </a:r>
            <a:endParaRPr b="0" lang="en-US" sz="8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Futura"/>
              </a:rPr>
              <a:t>Activities</a:t>
            </a:r>
            <a:endParaRPr b="0" lang="en-US" sz="8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Find a person with the answer ga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Vocabulary Team Brainstorming Activ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Grocery Shopping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Math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The Tree of Life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816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Critical and Creative Thinki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520280" y="614520"/>
            <a:ext cx="1170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igher-level thinking ski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124080" y="1951200"/>
            <a:ext cx="2743200" cy="4449600"/>
          </a:xfrm>
          <a:prstGeom prst="upArrow">
            <a:avLst>
              <a:gd name="adj1" fmla="val 50000"/>
              <a:gd name="adj2" fmla="val 40551"/>
            </a:avLst>
          </a:prstGeom>
          <a:gradFill rotWithShape="0">
            <a:gsLst>
              <a:gs pos="0">
                <a:srgbClr val="0081cb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Bloom’s Taxonomy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8640" y="2332080"/>
            <a:ext cx="39625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411480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58000" y="266652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41148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2600" y="22906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484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5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62940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Futura"/>
              </a:rPr>
              <a:t>Activities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hat type of question is 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Apply questioning techniques to content topi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62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utura"/>
              </a:rPr>
              <a:t>Student generated questions and answers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ransition spd="slow">
    <p:cover dir="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Futura"/>
              </a:rPr>
              <a:t>Create questions in the chart below.  Answer your own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1219320"/>
          <a:ext cx="6934320" cy="5257800"/>
        </p:xfrm>
        <a:graphic>
          <a:graphicData uri="http://schemas.openxmlformats.org/drawingml/2006/table">
            <a:tbl>
              <a:tblPr/>
              <a:tblGrid>
                <a:gridCol w="2141640"/>
                <a:gridCol w="2141280"/>
                <a:gridCol w="265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 wo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y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f? ? (If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Types of Writing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Descripti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Exposi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Narrativ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Argumentative or Persuasi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R.A.F.T.</a:t>
            </a: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riting</a:t>
            </a: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(provides purpose for writing)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666880"/>
            <a:ext cx="855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-role of the wri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A-audi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F-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-topic (+strong verb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76520" y="291960"/>
            <a:ext cx="5638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.A.F.T. Assign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nch 2--Traveling in Fran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71600" y="1243080"/>
            <a:ext cx="67816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R.A.F.T.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87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1752480"/>
          <a:ext cx="8610480" cy="21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10480" cy="218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slow"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9760" y="1111320"/>
            <a:ext cx="7779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KNOW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  <a:ea typeface="Lucida Grande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Futura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00040" y="1980720"/>
            <a:ext cx="563868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The teacher, if indeed wise, does not bid you to enter the house of her/his wisdom, but leads you to the threshold of you own mind.”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utur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Futura"/>
              </a:rPr>
              <a:t>Kahlil Gibran-Lebanese poet,   (1883-1931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745000" cy="40384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Another Thought…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34880"/>
            <a:ext cx="80010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Futura"/>
                <a:ea typeface="Arial"/>
              </a:rPr>
              <a:t>Knowledge Taxonomy-(Bloom’s)</a:t>
            </a:r>
            <a:endParaRPr b="0" lang="en-US" sz="37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"/>
          <p:cNvSpPr/>
          <p:nvPr/>
        </p:nvSpPr>
        <p:spPr>
          <a:xfrm>
            <a:off x="422280" y="571680"/>
            <a:ext cx="8024760" cy="93636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50800" y="5286240"/>
            <a:ext cx="5257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1. Knowledg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97160" y="4653000"/>
            <a:ext cx="4903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2. Comprehens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87440" y="3983040"/>
            <a:ext cx="372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3. Application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7960" y="3313080"/>
            <a:ext cx="300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4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Analy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92120" y="2643120"/>
            <a:ext cx="335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5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Synthe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93920" y="1974960"/>
            <a:ext cx="35319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6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Evalu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80960" y="609480"/>
            <a:ext cx="681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39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  <a:ea typeface="Arial"/>
              </a:rPr>
              <a:t>Application Model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5200" y="1905120"/>
            <a:ext cx="7775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360" tIns="46800" bIns="46800" anchor="ctr">
            <a:normAutofit fontScale="87000"/>
          </a:bodyPr>
          <a:p>
            <a:pPr marL="313200" indent="0"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1  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Knowledge of one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2   Application within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3   Application across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4   Application to real-world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    predictable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5   Application to real-world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 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unpredictable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434880"/>
            <a:ext cx="7467480" cy="93672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1920" y="152280"/>
            <a:ext cx="856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35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962520"/>
            <a:ext cx="306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Memorize the countries in the European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Answer the multiple choice vocabulary qu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1143000"/>
            <a:ext cx="312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Analyze both sides of the reasons for the start of the Civil W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Design a storyboard for the African legen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Obtain historical data about weather in a certain city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Design a PowerPoint movie as a entry to a “solve a world” problem conte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56160" y="3897360"/>
            <a:ext cx="3597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Calculate percentages of advertising in a Spanish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Organize and display collected data from the food preference survey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382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447920"/>
            <a:ext cx="5867280" cy="265428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Memorize the countries in the European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Answer the multiple choice vocabulary qui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Calculate volume of simple three- dimensional sha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0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6520" y="1143000"/>
            <a:ext cx="5562360" cy="448308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Calculate percentages of advertising in a Spanish news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Tour the school building and identify examples of parallel and perpendicular lines, planes, and ang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Organize and display collected data from the food preference survey, using appropriate tables, charts, or graphs.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32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1295280"/>
            <a:ext cx="5943600" cy="338580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Analyze both sides of the reasons for the start of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Design a storyboard for the African leg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Identify coordinates for ordered pairs that satisfy an algebraic relation or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5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52480" y="1143000"/>
            <a:ext cx="5486400" cy="484884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Obtain historical data about weather in a certain city to predict the chance of snow, rain, or sun during ye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Design a PowerPoint movie as a entry to a “solve a world” problem con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20680" y="596736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142640" y="1482840"/>
            <a:ext cx="17640" cy="4508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200" y="1130400"/>
            <a:ext cx="7765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5400" y="5956200"/>
            <a:ext cx="38876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22880" y="1517760"/>
            <a:ext cx="0" cy="4438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20680" y="361620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6120" y="3911760"/>
            <a:ext cx="965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40360" y="3875040"/>
            <a:ext cx="936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02200" y="142884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19120" y="152712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4280" y="6473880"/>
            <a:ext cx="594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31840" y="1061640"/>
            <a:ext cx="0" cy="4722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81080" y="-12600"/>
            <a:ext cx="697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Futura"/>
                <a:ea typeface="Arial"/>
              </a:rPr>
              <a:t>Rigor/Relevance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65240" y="4540320"/>
            <a:ext cx="212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31920" y="581040"/>
            <a:ext cx="697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Futura"/>
                <a:ea typeface="Arial"/>
              </a:rPr>
              <a:t>Teacher/Student R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65240" y="2039760"/>
            <a:ext cx="212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80040" y="2039760"/>
            <a:ext cx="3249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 &amp; 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51360" y="4540320"/>
            <a:ext cx="1660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A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258320" cy="4719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4000"/>
          </a:bodyPr>
          <a:p>
            <a:pPr marL="537120" indent="0">
              <a:spcBef>
                <a:spcPts val="1199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a paragraph from a tourist brochure and plot the 10 most popular cities in France to visit on the map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Futura"/>
              </a:rPr>
              <a:t>Essential Question: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ow do teachers vary instruction and assessment in order to be responsive to the needs of all student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B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166160" cy="4114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5000"/>
          </a:bodyPr>
          <a:p>
            <a:pPr marL="542880" indent="0">
              <a:spcBef>
                <a:spcPts val="9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Lucida Grande"/>
              </a:rPr>
              <a:t>Choose six cities that you like and plan and design a two week trip.  Include details of things to visit, hotels and restaurants and plot your trip on a m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C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391520" cy="4719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7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Do research on cities and regions of France according to types of activities and weather you prefer. Create a 10 slide PowerPoint to share your tri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D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258320" cy="4572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85000"/>
          </a:bodyPr>
          <a:p>
            <a:pPr marL="485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There is a group of 15 people of various ages and preferences.  Plan the best two-week trip for this group considering and negotiating these preferences. Create a marketing brochure to inform and persuade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1920" y="152280"/>
            <a:ext cx="856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9760" y="1111320"/>
            <a:ext cx="7779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KNOW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  <a:ea typeface="Lucida Grande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Futura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 Final Thought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9520" y="2057400"/>
            <a:ext cx="5334120" cy="404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"No one has yet realized the wealth of sympathy, the kindness and generosity hidden in the soul of a child. The effort of every true education should be to unlock that treasure."              -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Emma Gold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541680" cy="48006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CTFL Teacher of the Year 2009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.412.025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nitheisen@gmail.com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55120" y="3142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Comparing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935000"/>
            <a:ext cx="89154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Futura"/>
              </a:rPr>
              <a:t>Traditional (T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Futura"/>
              </a:rPr>
              <a:t>Differentiated (D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Classroom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82880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Futura"/>
              </a:rPr>
              <a:t>What patterns did you notice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1:08:45Z</dcterms:created>
  <dc:creator>Toni Theisen</dc:creator>
  <dc:description/>
  <dc:language>en-US</dc:language>
  <cp:lastModifiedBy>Toni Theisen</cp:lastModifiedBy>
  <dcterms:modified xsi:type="dcterms:W3CDTF">2010-11-03T02:29:29Z</dcterms:modified>
  <cp:revision>256</cp:revision>
  <dc:subject/>
  <dc:title>PowerPoint Presentation</dc:title>
</cp:coreProperties>
</file>